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7E01-C620-40EA-9BF5-B620ABEF87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9F1A-B071-4088-AF65-FDBDB2CA8A9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41BB-1DFA-4F37-9321-46CD0BCB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55EE-8E06-45DF-B46D-D041CB93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F40B-358A-4FD3-9A2A-11C9FD08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7CB-B1DF-4D42-9DE7-6FDEA7DF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B61B-DD62-4B6A-93E0-955D7F42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819E-0BDB-4F1C-8A78-56E56E27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88A0-CF0E-4A89-866A-77EBB75E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FFF5-2D4B-4388-AF81-54750B98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DF4F-D94B-47DB-A022-3FCEFB01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5165-43C3-4647-8748-5743EE94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2161-CF45-4CD5-B711-2DE5732B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F3F-87AA-42E9-B3B3-B33295FA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1518-83ED-40FF-B291-3BDB362B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46EE-4A57-455E-A757-20CA7763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670A-87E8-4FE9-8D51-FA8696CE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655A-08F3-4A5D-BE6C-1B7C58B2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F073-C5C4-4E17-BC4A-77A1768D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99E6-78EB-4783-BD8A-A00834BE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168-56D5-41A6-B962-964175BB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F3B-03D1-4351-ADD0-2D75C7C3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1C16-A7BD-4873-84F6-5483B57F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00B-201E-438A-B2F1-CF372127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77CD-00D7-4FB8-8919-BDCECA90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1D1A-B865-40F4-8820-E414E7A1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50F9-B5D6-4244-8FF7-782BB01AC5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A685-C5CF-4800-93FB-A8021E17405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Тайна воды…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: студентка 143 группы Сенькина Анна Леонидов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кружево будто одеты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Деревья, кусты, провода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кажется сказкою это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 все это просто в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езбрежная ширь океана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тихая заводь пруда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аскад водопада и брызги фонтана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 в сущности это в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ысокие волны вздымая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ушует морская вода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топит, и губит, играя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ольшие морские су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от белым легли покрывалом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а землю родную снега…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 время придет – все растает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будет простая в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а рабо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пп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ый предме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стни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иеся 10 кла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сновополагающий вопрос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то знает уникума планеты Земл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блемные вопросы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сокрыто в замерзшей вод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воду называют «жидким золотом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камень обливается пот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чебные вопро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ими важнейшими физическими свойствами обладает вод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ему даже в лютую зиму вода в водоемах не промерзает до дна? Какое это имеет значение для живой природ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чего сделан лед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снежинк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 отличаются снежинки и кристаллы льд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связаны пар и вод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насыщенный пар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идактические цел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ть понятие об атмосферной и относительной влажности воздуха и их определений, а так же познакомиться с составом атмосферы Земли и Солнечной сист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бщить, проанализировать и расширить знания учащихся о воде, ее роли в живой и неживой природе, в жизни челове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ть представление о характерных признаках зимы в неживой природ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формировать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навыки эмпирического и теоретического исследований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навыки работы в коллективе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культуру публичного выступления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учить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устанавливать причинно-следственные связи, выделять главное, обобщать, систематизировать, делать выводы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грамотно оценивать достоверность полученной информации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азвить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мультимедийные умения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креативные способности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критическое мышлени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казать, что вода — уникальное природное соединение, активная среда для жизни растений, животных и человек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зучить физические и химические свойства воды, рациональное использование водных ресурсов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формировать бережное отношение к воде и к миру в целом, ощущать себя частью этого мир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ктивизировать познавательную деятельность учащихс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езультаты представления исследований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зентация: «Что сокрыто в замерзшей воде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бликация: Почему вода – «жидкое золото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2:56:26Z</dcterms:created>
  <dc:creator>26091</dc:creator>
  <dc:description/>
  <dc:language>en-US</dc:language>
  <cp:lastModifiedBy>26091</cp:lastModifiedBy>
  <dcterms:modified xsi:type="dcterms:W3CDTF">2010-06-05T04:49:50Z</dcterms:modified>
  <cp:revision>26</cp:revision>
  <dc:subject/>
  <dc:title>Вода – это жизнь!</dc:title>
</cp:coreProperties>
</file>